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629-F0AD-4EB7-94E2-A7760107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35D-0DB0-4E14-8667-8CE628C2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317-3BFD-445E-8FF0-36166B05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A24-64BD-4AAE-9820-A6AAA07E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26F-387A-4829-80CE-4479D2C1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E65-4F34-4D63-8EAA-4BF96432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CD2-FE85-47EB-B7D2-AC66EA52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A34E-F705-4E98-8573-F00FD726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D3FF-D63F-4961-B67D-2574F8B9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73D-8C77-49CD-A788-EC728B26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C23B-56C8-4397-8599-46102999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6E4A-D8D7-4F79-8964-EE49672B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2939-4A8B-4B02-9BD3-C6B9142A5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constitutioncenter.org/timeline/flash/assets/asset_upload_file562_12288.jpg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pbs.org/wnet/supremecourt/timeline/images/timeline_pic17.jpg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billofrightsinstitute.org/.../cartoon3.jpg%20.%205/24/10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europeancourier.org/images/Mapp.jpg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Warren Co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54-19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Rebecca Joh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el v Vitale (196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blic school in Hyde Park, NY required all kids to recite daily in sch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61722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ool prayer (online image) available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onstitutioncenter.org/timeline/flash/assets/asset_upload_file562_12288.jp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19520"/>
            <a:ext cx="51055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mighty God, we acknowledge our dependence upon Thee, and we beg Thy blessings upon us, our parents, our teachers and our country. Ame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20794800">
            <a:off x="752400" y="2830680"/>
            <a:ext cx="8318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randa v Arizona (196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3 Ernesto Miranda arrested for suspected kidnapping and rape of an 18-year-old 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764080" cy="2981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6095880"/>
            <a:ext cx="792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anda  (online image) available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bs.org/wnet/supremecourt/timeline/images/timeline_pic17.jp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971800"/>
            <a:ext cx="5562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igned a confession after 2 hours of conf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91120"/>
            <a:ext cx="556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 was informed of right to remain silent or right to law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0794800">
            <a:off x="752400" y="2830680"/>
            <a:ext cx="8318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2835360" cy="365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aur"/>
              </a:rPr>
              <a:t>Chief Justice Earl Warr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ef Justice for 16 years (1954-19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09588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ren  painting (online image) available http://www.google.com/imgres?imgurl=http://www.supremecourthistory.org/history/images/014_warren.jpg&amp;imgrefurl=http://www.supremecourthistory.org/history/supremecourthistory_history_chief_014warren.htm&amp;usg=__Es9sWPmj8ydKsZBAuFNYeep4ICc=&amp;h=400&amp;w=310&amp;sz=22&amp;hl=en&amp;start=1&amp;sig2=xlJeBFZ6d6NeOJb_tQivSg&amp;itbs=1&amp;tbnid=g6EoO03mVyCwXM:&amp;tbnh=124&amp;tbnw=96&amp;prev=/images%3Fq%3Dearl%2Bwarren%26hl%3Den%26gbv%3D2%26tbs%3Disch:1&amp;ei=tLr5S_r8M8T7lwf_ytDLCg. 5/23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4572000"/>
            <a:ext cx="6248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as chief justice voted liberally o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n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ivil rights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3505320"/>
            <a:ext cx="5790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sed efforts to make CA’s state assembly more representative of its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2590920"/>
            <a:ext cx="6019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shed for Japanese Internment as Attorney General in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981080"/>
            <a:ext cx="7924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iously had negative civil rights rec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aur"/>
              </a:rPr>
              <a:t>Brown vs. Board of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4 Linda Brown walked 6 blocks to ride catch a bus to her segregated school 1 mile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14800" y="2666880"/>
            <a:ext cx="48006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28600" y="6477120"/>
            <a:ext cx="8915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ckwell painting (online image) available http://www.learntoquestion.com/resources/database/archives/Norman%20Rockwell,%20the%20Problem%20we%20all%20live%20with.jpg. 5/23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0665200">
            <a:off x="1828800" y="4723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971800"/>
            <a:ext cx="3429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ll white school was 7 blocks from her house but she was not allowed to att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aur"/>
              </a:rPr>
              <a:t>Brown vs. Board of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6477120"/>
            <a:ext cx="8915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ckwell painting (online image) available http://www.learntoquestion.com/resources/database/archives/Norman%20Rockwell,%20the%20Problem%20we%20all%20live%20with.jpg. 5/23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038480" y="2895480"/>
            <a:ext cx="48006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685800" y="12952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turned Plessy v Fergusson and the idea of separate but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952640" cy="2333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61 Gideon stole $5 in change (from a jukebox) and some alcohol from a pool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n’t afford a lawyer &amp; Florida did not provid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d to 5 years in jail, but researched legal rights and petitioned on prison note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267080"/>
            <a:ext cx="79250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200400"/>
            <a:ext cx="792468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1522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deon v Wainwright (196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5867280"/>
            <a:ext cx="792504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ideon cartoon (online image) available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illofrightsinstitute.org/.../cartoon3.jpg . 5/24/10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ideon (online image) available http://www.pbs.org/wnet/supremecourt/rights/images/gideon.jpg .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tition (online image) available http://www.ocpd.state.ct.us/images/Gideon%20Petition.gif 5/23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209680" y="0"/>
            <a:ext cx="43340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1828800"/>
            <a:ext cx="6629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057400" y="609480"/>
            <a:ext cx="4718160" cy="528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rot="20794800">
            <a:off x="752400" y="2830680"/>
            <a:ext cx="8318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 v. Carr 19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islative distric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vided votes eq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20072" t="35778" r="1022" b="35778"/>
          <a:stretch/>
        </p:blipFill>
        <p:spPr>
          <a:xfrm>
            <a:off x="838080" y="2666880"/>
            <a:ext cx="7925040" cy="2186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001960" y="2666880"/>
            <a:ext cx="47448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800600" y="27432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371600" y="31240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971800" y="38098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2666880" y="27432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3886200" y="26668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3352680" y="32767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4495680" y="37339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6172200" y="32767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5410080" y="38098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1905120" y="3657600"/>
            <a:ext cx="47448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5562720" y="2743200"/>
            <a:ext cx="474480" cy="762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>
            <a:off x="6400800" y="24382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5"/>
          <a:stretch/>
        </p:blipFill>
        <p:spPr>
          <a:xfrm>
            <a:off x="7162920" y="2819520"/>
            <a:ext cx="474480" cy="761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6"/>
          <a:stretch/>
        </p:blipFill>
        <p:spPr>
          <a:xfrm>
            <a:off x="7772400" y="2514600"/>
            <a:ext cx="474840" cy="762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327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6095880"/>
            <a:ext cx="7924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nessee (online image) available http://nationalatlas.gov/printable/images/preview/congdist/pagecgd109_tn2.gif.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6172200"/>
            <a:ext cx="7924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nessee (online image) available http://nationalatlas.gov/printable/images/preview/congdist/pagecgd109_tn2.gif.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0072" t="35778" r="1022" b="35778"/>
          <a:stretch/>
        </p:blipFill>
        <p:spPr>
          <a:xfrm>
            <a:off x="762120" y="2286000"/>
            <a:ext cx="7924680" cy="218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25640" y="22860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24280" y="23623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295280" y="27432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2895480" y="34290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2590920" y="2362320"/>
            <a:ext cx="474480" cy="761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3809880" y="22860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3352680" y="32767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4419720" y="3352680"/>
            <a:ext cx="474480" cy="762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6095880" y="28954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5334120" y="3429000"/>
            <a:ext cx="474480" cy="762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1828800" y="32767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3"/>
          <a:stretch/>
        </p:blipFill>
        <p:spPr>
          <a:xfrm>
            <a:off x="5486400" y="23623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4"/>
          <a:stretch/>
        </p:blipFill>
        <p:spPr>
          <a:xfrm>
            <a:off x="6324480" y="20574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5"/>
          <a:stretch/>
        </p:blipFill>
        <p:spPr>
          <a:xfrm>
            <a:off x="7086600" y="24382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6"/>
          <a:stretch/>
        </p:blipFill>
        <p:spPr>
          <a:xfrm>
            <a:off x="7696080" y="2133720"/>
            <a:ext cx="474840" cy="761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 v. Carr 19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447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s many people moved to the cit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4197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ricts kept the same percentage of votes.  This meant that the city (urban) votes counted ______ than the country (rural) v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20794800">
            <a:off x="752400" y="2830680"/>
            <a:ext cx="8318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7341E-006 L -0.125 0.09989 E">
                                      <p:cBhvr>
                                        <p:cTn id="17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46821E-006 L -0.16667 0.07769 E">
                                      <p:cBhvr>
                                        <p:cTn id="17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7341E-006 L 0.09166 1.7341E-006 E">
                                      <p:cBhvr>
                                        <p:cTn id="17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46821E-006 L -0.14167 -0.06659 E">
                                      <p:cBhvr>
                                        <p:cTn id="18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6.53179E-006 L 0.10001 -0.07769 E">
                                      <p:cBhvr>
                                        <p:cTn id="18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1.09827E-006 L -0.1342 0.06659 E">
                                      <p:cBhvr>
                                        <p:cTn id="19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66 -0.0222 L 0.35833 0.02219 E">
                                      <p:cBhvr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587 0.0111 L -0.19254 0.13318 E">
                                      <p:cBhvr>
                                        <p:cTn id="19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84971E-006 C -0.02969 -0.05017 -0.05938 -0.10011 -0.08264 -0.10566 C -0.1059 -0.11121 -0.12709 -0.08208 -0.13976 -0.03375 C -0.15243 0.01457 -0.19236 0.11792 -0.15886 0.18405 C -0.12535 0.25018 0.02847 0.36162 0.06163 0.3637 C 0.09514 0.36578 0.04982 0.23307 0.04114 0.19677 C 0.03229 0.16046 0.01476 0.15445 0.00937 0.1459 E">
                                      <p:cBhvr>
                                        <p:cTn id="20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2.08092E-006 C 0.07847 -0.11885 0.15694 -0.23769 0.21597 -0.19653 C 0.27499 -0.15538 0.29236 0.17688 0.35399 0.2474 C 0.41545 0.31792 0.53003 0.25826 0.58576 0.22613 C 0.64131 0.19399 0.6894 0.08115 0.68732 0.05503 C 0.68524 0.0289 0.59218 0.06728 0.57308 0.06982 E">
                                      <p:cBhvr>
                                        <p:cTn id="20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62428E-007 C 0.00747 0.11283 0.01493 0.22589 0.05243 0.23052 C 0.08993 0.23514 0.19653 0.06127 0.22535 0.02751 E">
                                      <p:cBhvr>
                                        <p:cTn id="21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 v. Oh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8320" y="2895480"/>
            <a:ext cx="4495680" cy="3310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3520" y="64008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pp (online image) available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uropeancourier.org/images/Mapp.jp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io cops got a tip that Dollree Mapp was hiding a criminal, so they went to her house and demanded ent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429000"/>
            <a:ext cx="4419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’s lawyer told her to demand a warrant which the cops did not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 v. Oh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743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s came in any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447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s produced a fake warrant which Mapp shoved down her shi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36576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n’t find a criminal but found porn inst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819520" cy="2079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629400" y="213372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xx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44197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 arrested for possession of “obscene” mate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0794800">
            <a:off x="752400" y="2830680"/>
            <a:ext cx="8318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04:26:42Z</dcterms:created>
  <dc:creator>Rebecca Johnson</dc:creator>
  <dc:description/>
  <dc:language>en-US</dc:language>
  <cp:lastModifiedBy>Rebecca Johnson</cp:lastModifiedBy>
  <dcterms:modified xsi:type="dcterms:W3CDTF">2010-07-11T16:49:19Z</dcterms:modified>
  <cp:revision>11</cp:revision>
  <dc:subject/>
  <dc:title>The Warren Court</dc:title>
</cp:coreProperties>
</file>